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8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2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5F2B-E17A-4681-B335-EEA3F679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4043-25A1-46BD-8807-4A16D98B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6F5A-8065-4D2E-A4FB-E3DCFFA0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05F5-6180-4B15-9959-C3F84248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2E4A-175B-4D32-A3FD-65FA61A8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7D01-958B-4242-96FD-AEBD1198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F502-4EC0-4B1E-8A7B-0DB4A6D0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ED07-B685-48B7-9FE6-A019BFA0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EFB4-A48F-4D06-95C4-B6F7F572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CD4C-BDCD-4C52-9CA1-089E13B0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26BE-3FFA-4A99-B8A2-CE6F04DF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4CF2-20B5-4388-8F49-F1328D91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A4FA-A874-4AE5-8584-CBD5C4BD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25E8-C8E2-4CCB-99AF-EACC65DF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119E-A295-450A-9818-D978F677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477A-3E26-44D7-ADEB-E7B07BB02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DD12-1A56-4E65-AC1B-BD5932B1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4C05F-A0D4-47D0-B836-C5FC7463C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2D603-F80F-40C4-94CB-7576BBE5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39383-C96B-411D-BD2E-FADF89EF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26086-CDC2-40F9-85FF-88A42D21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FC3E5-30BC-490B-81B8-52E26F7E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64BF-442E-4E02-926B-6971246F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D8ED0-A769-4C3E-8336-F258DB17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A58C3-E2A9-446F-8D7E-229EB50F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0C2B0-36D5-414F-B6D5-9D68D957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A3797-DFB1-49D7-97E7-4AA884C6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E1157-E00F-4C7B-B2FE-0963E27E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D244F-496B-40D0-82C8-0FB48ED85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871D3-3C6A-471C-B485-60279CD5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135ED-555B-440F-BAD5-5ECE7EFB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7EBAD-1E2E-4523-AF99-2EC73732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8F92B-609E-476F-AD35-35587EED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854C-76E6-4F9C-BF34-546C34F1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F6EC0-A371-4505-85DC-4AB1B7B8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CF193-0D93-4732-90A3-E8194F1C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AB0FF-A491-4ED4-9826-CFCEDD80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1CCE5-0676-4006-87A7-D0D7CE31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BA3DA-9BFE-49FB-8DFA-268752A7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31F4C-8741-4DC8-8DB6-4B08156E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CA924-5DF2-4980-9F36-FDF7DE8D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90606-8F6C-4C5A-BA08-454560F9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1C6BC-62DD-4936-A68F-46B6DC3D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1E784-3E58-45A4-91D3-8B14D7D7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EDB1-B75C-4EF0-8571-4664BB7F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73A36-7A51-42E9-B944-3667081F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CFD75-4952-473C-8A10-E81C76CD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18617-7473-4DAF-856B-170868AE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5BFEA-4769-4F28-9C8A-03A7E296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BF333-B6BA-4BBD-A0F9-E65A5605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545A3-DE21-4E88-847C-4D378F78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E153B-E375-4856-BA38-7B3E7117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8FEBA-6FDA-480D-8636-8D6448B1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5631F-9955-4E67-816D-E9FC8D28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8E4A6-FC41-4079-B74F-5D5DDB79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CF22-9AB7-485E-983F-0906CCDB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F8595-8CE2-46CD-8734-E60F61A8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9E44-C7B2-4EE1-9639-CA30991C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1B6F-73ED-4976-8D03-30DC3DD0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7E11-DE23-4205-95CD-FA017AD1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B84A-88FB-4D35-8B55-1836ADE3B236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3A07-353E-4B30-825C-D66E14A0588C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87AE-E95E-4776-9747-67244CBA5E3E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3488-1980-480D-9310-C38C03CD7EBA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3D59-782E-40AD-8DC5-6EAFE5CDC5DC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racing Evolutionary Histor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peciation in Real tim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57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e formation of Pangae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90972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tered habitats and triggered extinc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58" name="Group 37"/>
          <p:cNvGrpSpPr/>
          <p:nvPr/>
        </p:nvGrpSpPr>
        <p:grpSpPr>
          <a:xfrm>
            <a:off x="2880000" y="1866960"/>
            <a:ext cx="3379680" cy="4627800"/>
            <a:chOff x="2880000" y="1866960"/>
            <a:chExt cx="3379680" cy="4627800"/>
          </a:xfrm>
        </p:grpSpPr>
        <p:sp>
          <p:nvSpPr>
            <p:cNvPr id="259" name="Text Box 4"/>
            <p:cNvSpPr/>
            <p:nvPr/>
          </p:nvSpPr>
          <p:spPr>
            <a:xfrm>
              <a:off x="2880000" y="621828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5.3B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0" name="Picture 6" descr="_x001c_15_03bContinentalDrift_U.jpg                                   0050D02E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4054320" y="1866960"/>
              <a:ext cx="2205360" cy="460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Line 8"/>
            <p:cNvSpPr/>
            <p:nvPr/>
          </p:nvSpPr>
          <p:spPr>
            <a:xfrm flipH="1">
              <a:off x="4057560" y="2406600"/>
              <a:ext cx="2022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9"/>
            <p:cNvSpPr/>
            <p:nvPr/>
          </p:nvSpPr>
          <p:spPr>
            <a:xfrm>
              <a:off x="3817440" y="22795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0"/>
            <p:cNvSpPr/>
            <p:nvPr/>
          </p:nvSpPr>
          <p:spPr>
            <a:xfrm flipH="1">
              <a:off x="4057560" y="3328920"/>
              <a:ext cx="2022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1"/>
            <p:cNvSpPr/>
            <p:nvPr/>
          </p:nvSpPr>
          <p:spPr>
            <a:xfrm>
              <a:off x="3732480" y="31860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2"/>
            <p:cNvSpPr/>
            <p:nvPr/>
          </p:nvSpPr>
          <p:spPr>
            <a:xfrm flipH="1">
              <a:off x="4470480" y="4211640"/>
              <a:ext cx="1604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3"/>
            <p:cNvSpPr/>
            <p:nvPr/>
          </p:nvSpPr>
          <p:spPr>
            <a:xfrm>
              <a:off x="3648240" y="407844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3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4"/>
            <p:cNvSpPr/>
            <p:nvPr/>
          </p:nvSpPr>
          <p:spPr>
            <a:xfrm flipH="1">
              <a:off x="4053960" y="4211640"/>
              <a:ext cx="15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5"/>
            <p:cNvSpPr/>
            <p:nvPr/>
          </p:nvSpPr>
          <p:spPr>
            <a:xfrm>
              <a:off x="3679920" y="536256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4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6"/>
            <p:cNvSpPr/>
            <p:nvPr/>
          </p:nvSpPr>
          <p:spPr>
            <a:xfrm flipH="1">
              <a:off x="4086360" y="5516640"/>
              <a:ext cx="420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7"/>
            <p:cNvSpPr/>
            <p:nvPr/>
          </p:nvSpPr>
          <p:spPr>
            <a:xfrm flipH="1">
              <a:off x="5121000" y="5716440"/>
              <a:ext cx="958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8"/>
            <p:cNvSpPr/>
            <p:nvPr/>
          </p:nvSpPr>
          <p:spPr>
            <a:xfrm flipH="1">
              <a:off x="4456080" y="5716440"/>
              <a:ext cx="455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19"/>
            <p:cNvSpPr/>
            <p:nvPr/>
          </p:nvSpPr>
          <p:spPr>
            <a:xfrm rot="16200000">
              <a:off x="2570760" y="3988800"/>
              <a:ext cx="157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llions of years ago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20"/>
            <p:cNvSpPr/>
            <p:nvPr/>
          </p:nvSpPr>
          <p:spPr>
            <a:xfrm rot="16200000">
              <a:off x="3998520" y="5767200"/>
              <a:ext cx="76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aleozoic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21"/>
            <p:cNvSpPr/>
            <p:nvPr/>
          </p:nvSpPr>
          <p:spPr>
            <a:xfrm rot="16200000">
              <a:off x="4003560" y="4433760"/>
              <a:ext cx="750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esozoic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22"/>
            <p:cNvSpPr/>
            <p:nvPr/>
          </p:nvSpPr>
          <p:spPr>
            <a:xfrm rot="16200000">
              <a:off x="4006800" y="2720880"/>
              <a:ext cx="744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enozoic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23"/>
            <p:cNvSpPr/>
            <p:nvPr/>
          </p:nvSpPr>
          <p:spPr>
            <a:xfrm rot="20553000">
              <a:off x="4555440" y="3016080"/>
              <a:ext cx="83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rth America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24"/>
            <p:cNvSpPr/>
            <p:nvPr/>
          </p:nvSpPr>
          <p:spPr>
            <a:xfrm>
              <a:off x="5199120" y="3013200"/>
              <a:ext cx="52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urasia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25"/>
            <p:cNvSpPr/>
            <p:nvPr/>
          </p:nvSpPr>
          <p:spPr>
            <a:xfrm>
              <a:off x="4896720" y="3151080"/>
              <a:ext cx="442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frica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6"/>
            <p:cNvSpPr/>
            <p:nvPr/>
          </p:nvSpPr>
          <p:spPr>
            <a:xfrm>
              <a:off x="4598280" y="3305160"/>
              <a:ext cx="55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uth 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merica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27"/>
            <p:cNvSpPr/>
            <p:nvPr/>
          </p:nvSpPr>
          <p:spPr>
            <a:xfrm>
              <a:off x="5248800" y="332892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dia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28"/>
            <p:cNvSpPr/>
            <p:nvPr/>
          </p:nvSpPr>
          <p:spPr>
            <a:xfrm>
              <a:off x="5009400" y="3565440"/>
              <a:ext cx="63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tarctica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29"/>
            <p:cNvSpPr/>
            <p:nvPr/>
          </p:nvSpPr>
          <p:spPr>
            <a:xfrm rot="20085600">
              <a:off x="5492160" y="3452400"/>
              <a:ext cx="578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ustralia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30"/>
            <p:cNvSpPr/>
            <p:nvPr/>
          </p:nvSpPr>
          <p:spPr>
            <a:xfrm>
              <a:off x="5004720" y="3930480"/>
              <a:ext cx="570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sia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31"/>
            <p:cNvSpPr/>
            <p:nvPr/>
          </p:nvSpPr>
          <p:spPr>
            <a:xfrm rot="1252200">
              <a:off x="4953600" y="4309920"/>
              <a:ext cx="671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ondwana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32"/>
            <p:cNvSpPr/>
            <p:nvPr/>
          </p:nvSpPr>
          <p:spPr>
            <a:xfrm rot="18811200">
              <a:off x="4754160" y="5567040"/>
              <a:ext cx="58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ngaea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e separation of the continent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ffected the distribution and diversification of organism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7" name="Picture 5" descr="_x001c_15_03cAfricanLungfish_UP.jpg                                   0050D02E_x0003_203                            BE61E8D3:"/>
          <p:cNvPicPr/>
          <p:nvPr/>
        </p:nvPicPr>
        <p:blipFill>
          <a:blip r:embed="rId1"/>
          <a:stretch/>
        </p:blipFill>
        <p:spPr>
          <a:xfrm>
            <a:off x="208080" y="2660760"/>
            <a:ext cx="4081320" cy="2717640"/>
          </a:xfrm>
          <a:prstGeom prst="rect">
            <a:avLst/>
          </a:prstGeom>
          <a:ln w="0">
            <a:noFill/>
          </a:ln>
        </p:spPr>
      </p:pic>
      <p:grpSp>
        <p:nvGrpSpPr>
          <p:cNvPr id="288" name="Group 16"/>
          <p:cNvGrpSpPr/>
          <p:nvPr/>
        </p:nvGrpSpPr>
        <p:grpSpPr>
          <a:xfrm>
            <a:off x="4344840" y="2309760"/>
            <a:ext cx="4557960" cy="3657600"/>
            <a:chOff x="4344840" y="2309760"/>
            <a:chExt cx="4557960" cy="3657600"/>
          </a:xfrm>
        </p:grpSpPr>
        <p:pic>
          <p:nvPicPr>
            <p:cNvPr id="289" name="Picture 7" descr="_x001b_15_03dLungfishDistrib_U.jpg                                    0050D02E_x0003_203                            BE61E8D3:"/>
            <p:cNvPicPr/>
            <p:nvPr/>
          </p:nvPicPr>
          <p:blipFill>
            <a:blip r:embed="rId2"/>
            <a:stretch/>
          </p:blipFill>
          <p:spPr>
            <a:xfrm>
              <a:off x="4344840" y="2309760"/>
              <a:ext cx="455796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 Box 8"/>
            <p:cNvSpPr/>
            <p:nvPr/>
          </p:nvSpPr>
          <p:spPr>
            <a:xfrm>
              <a:off x="4961880" y="3165480"/>
              <a:ext cx="644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rth 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meric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9"/>
            <p:cNvSpPr/>
            <p:nvPr/>
          </p:nvSpPr>
          <p:spPr>
            <a:xfrm>
              <a:off x="5474520" y="4476600"/>
              <a:ext cx="644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uth 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meric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10"/>
            <p:cNvSpPr/>
            <p:nvPr/>
          </p:nvSpPr>
          <p:spPr>
            <a:xfrm>
              <a:off x="6491160" y="345276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urop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7412400" y="33177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si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12"/>
            <p:cNvSpPr/>
            <p:nvPr/>
          </p:nvSpPr>
          <p:spPr>
            <a:xfrm>
              <a:off x="6393600" y="3957480"/>
              <a:ext cx="50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fric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3"/>
            <p:cNvSpPr/>
            <p:nvPr/>
          </p:nvSpPr>
          <p:spPr>
            <a:xfrm>
              <a:off x="7876440" y="5070600"/>
              <a:ext cx="67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ustrali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14"/>
            <p:cNvSpPr/>
            <p:nvPr/>
          </p:nvSpPr>
          <p:spPr>
            <a:xfrm>
              <a:off x="6370200" y="5340240"/>
              <a:ext cx="122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= Living lungfishes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5"/>
            <p:cNvSpPr/>
            <p:nvPr/>
          </p:nvSpPr>
          <p:spPr>
            <a:xfrm>
              <a:off x="6370200" y="5580000"/>
              <a:ext cx="145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= Fossilized lungfishes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4"/>
          <p:cNvSpPr/>
          <p:nvPr/>
        </p:nvSpPr>
        <p:spPr>
          <a:xfrm>
            <a:off x="4351680" y="584208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3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8"/>
          <p:cNvSpPr/>
          <p:nvPr/>
        </p:nvSpPr>
        <p:spPr>
          <a:xfrm>
            <a:off x="358920" y="531180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3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5.4 Tectonic trauma imperils local lif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Volcanoes and earthquakes result from plate tectonic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movements of Earth’s crustal plat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02" name="Group 19"/>
          <p:cNvGrpSpPr/>
          <p:nvPr/>
        </p:nvGrpSpPr>
        <p:grpSpPr>
          <a:xfrm>
            <a:off x="753120" y="3451320"/>
            <a:ext cx="7600320" cy="3408480"/>
            <a:chOff x="753120" y="3451320"/>
            <a:chExt cx="7600320" cy="3408480"/>
          </a:xfrm>
        </p:grpSpPr>
        <p:grpSp>
          <p:nvGrpSpPr>
            <p:cNvPr id="303" name="Group 17"/>
            <p:cNvGrpSpPr/>
            <p:nvPr/>
          </p:nvGrpSpPr>
          <p:grpSpPr>
            <a:xfrm>
              <a:off x="753120" y="3635280"/>
              <a:ext cx="4531680" cy="3041640"/>
              <a:chOff x="753120" y="3635280"/>
              <a:chExt cx="4531680" cy="3041640"/>
            </a:xfrm>
          </p:grpSpPr>
          <p:pic>
            <p:nvPicPr>
              <p:cNvPr id="304" name="Picture 6" descr="_x001d_15_04aSanAndreasFault_CNL.jpg                                  0050D02E_x0003_203                            BE61E8D3:"/>
              <p:cNvPicPr/>
              <p:nvPr/>
            </p:nvPicPr>
            <p:blipFill>
              <a:blip r:embed="rId2"/>
              <a:stretch/>
            </p:blipFill>
            <p:spPr>
              <a:xfrm>
                <a:off x="852480" y="3678120"/>
                <a:ext cx="4432320" cy="299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Line 7"/>
              <p:cNvSpPr/>
              <p:nvPr/>
            </p:nvSpPr>
            <p:spPr>
              <a:xfrm flipV="1">
                <a:off x="1001520" y="3845880"/>
                <a:ext cx="330480" cy="662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Text Box 8"/>
              <p:cNvSpPr/>
              <p:nvPr/>
            </p:nvSpPr>
            <p:spPr>
              <a:xfrm>
                <a:off x="1198080" y="3635280"/>
                <a:ext cx="1226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an Andreas Fault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9"/>
              <p:cNvSpPr/>
              <p:nvPr/>
            </p:nvSpPr>
            <p:spPr>
              <a:xfrm>
                <a:off x="1794600" y="4325760"/>
                <a:ext cx="714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orth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merican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late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Text Box 10"/>
              <p:cNvSpPr/>
              <p:nvPr/>
            </p:nvSpPr>
            <p:spPr>
              <a:xfrm>
                <a:off x="1166040" y="5024160"/>
                <a:ext cx="990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an Francisco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Text Box 11"/>
              <p:cNvSpPr/>
              <p:nvPr/>
            </p:nvSpPr>
            <p:spPr>
              <a:xfrm>
                <a:off x="1299600" y="5202000"/>
                <a:ext cx="813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anta Cruz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12"/>
              <p:cNvSpPr/>
              <p:nvPr/>
            </p:nvSpPr>
            <p:spPr>
              <a:xfrm>
                <a:off x="1094760" y="5973480"/>
                <a:ext cx="875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os Angeles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Text Box 13"/>
              <p:cNvSpPr/>
              <p:nvPr/>
            </p:nvSpPr>
            <p:spPr>
              <a:xfrm>
                <a:off x="753120" y="5295600"/>
                <a:ext cx="5526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acific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late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Text Box 14"/>
              <p:cNvSpPr/>
              <p:nvPr/>
            </p:nvSpPr>
            <p:spPr>
              <a:xfrm>
                <a:off x="1474920" y="6225840"/>
                <a:ext cx="712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lifornia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3" name="Picture 15" descr="_x0015_15_04bKrakatau_UP.jpg                                          0050D02E_x0003_203                            BE61E8D3:"/>
            <p:cNvPicPr/>
            <p:nvPr/>
          </p:nvPicPr>
          <p:blipFill>
            <a:blip r:embed="rId3"/>
            <a:stretch/>
          </p:blipFill>
          <p:spPr>
            <a:xfrm>
              <a:off x="5564160" y="3451320"/>
              <a:ext cx="2789280" cy="33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Text Box 4"/>
            <p:cNvSpPr/>
            <p:nvPr/>
          </p:nvSpPr>
          <p:spPr>
            <a:xfrm>
              <a:off x="3907080" y="6583320"/>
              <a:ext cx="129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5.4A, B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04560" y="685800"/>
            <a:ext cx="7861320" cy="29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5.5 Mass extinctions were followed by diversification of life-form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Mass extinction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ccurred at the end of the Permian and Cretaceous period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04560" y="685800"/>
            <a:ext cx="786132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e Cretaceous extinction, which included the dinosaur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y have been caused by an asteroi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17" name="Group 15"/>
          <p:cNvGrpSpPr/>
          <p:nvPr/>
        </p:nvGrpSpPr>
        <p:grpSpPr>
          <a:xfrm>
            <a:off x="901800" y="2289240"/>
            <a:ext cx="7480080" cy="4129200"/>
            <a:chOff x="901800" y="2289240"/>
            <a:chExt cx="7480080" cy="4129200"/>
          </a:xfrm>
        </p:grpSpPr>
        <p:sp>
          <p:nvSpPr>
            <p:cNvPr id="318" name="Text Box 4"/>
            <p:cNvSpPr/>
            <p:nvPr/>
          </p:nvSpPr>
          <p:spPr>
            <a:xfrm>
              <a:off x="4162320" y="614196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5.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14"/>
            <p:cNvGrpSpPr/>
            <p:nvPr/>
          </p:nvGrpSpPr>
          <p:grpSpPr>
            <a:xfrm>
              <a:off x="901800" y="2289240"/>
              <a:ext cx="7480080" cy="3890880"/>
              <a:chOff x="901800" y="2289240"/>
              <a:chExt cx="7480080" cy="3890880"/>
            </a:xfrm>
          </p:grpSpPr>
          <p:pic>
            <p:nvPicPr>
              <p:cNvPr id="320" name="Picture 6" descr="_x001d_15_05ImpactHypothesis_CNL.jpg                                  0050D02E_x0003_203                            BE644015:"/>
              <p:cNvPicPr/>
              <p:nvPr/>
            </p:nvPicPr>
            <p:blipFill>
              <a:blip r:embed="rId1"/>
              <a:stretch/>
            </p:blipFill>
            <p:spPr>
              <a:xfrm>
                <a:off x="901800" y="2289240"/>
                <a:ext cx="7480080" cy="389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1" name="Text Box 7"/>
              <p:cNvSpPr/>
              <p:nvPr/>
            </p:nvSpPr>
            <p:spPr>
              <a:xfrm>
                <a:off x="1514880" y="3184560"/>
                <a:ext cx="55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orth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merica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Text Box 8"/>
              <p:cNvSpPr/>
              <p:nvPr/>
            </p:nvSpPr>
            <p:spPr>
              <a:xfrm>
                <a:off x="2044080" y="3591000"/>
                <a:ext cx="628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hicxulub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rater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9"/>
              <p:cNvSpPr/>
              <p:nvPr/>
            </p:nvSpPr>
            <p:spPr>
              <a:xfrm>
                <a:off x="1100160" y="3763800"/>
                <a:ext cx="628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ucatán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eninsula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10"/>
              <p:cNvSpPr/>
              <p:nvPr/>
            </p:nvSpPr>
            <p:spPr>
              <a:xfrm flipV="1">
                <a:off x="1614240" y="3758760"/>
                <a:ext cx="299520" cy="133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11"/>
              <p:cNvSpPr/>
              <p:nvPr/>
            </p:nvSpPr>
            <p:spPr>
              <a:xfrm flipV="1">
                <a:off x="1922040" y="3690360"/>
                <a:ext cx="182520" cy="39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12"/>
              <p:cNvSpPr/>
              <p:nvPr/>
            </p:nvSpPr>
            <p:spPr>
              <a:xfrm>
                <a:off x="3398400" y="4722840"/>
                <a:ext cx="0" cy="834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Text Box 13"/>
              <p:cNvSpPr/>
              <p:nvPr/>
            </p:nvSpPr>
            <p:spPr>
              <a:xfrm>
                <a:off x="3045600" y="5572080"/>
                <a:ext cx="66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Yucatán</a:t>
                </a:r>
                <a:br>
                  <a:rPr sz="800"/>
                </a:b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Peninsula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 rebound in diversity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llows mass extinc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602480" cy="11509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5.6 Phylogenies are based on homologies in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fossils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and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 living organism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Phylogeny, the evolutionary </a:t>
            </a:r>
            <a:r>
              <a:rPr b="0" lang="en-US" sz="2300" spc="-1" strike="noStrike" u="sng">
                <a:solidFill>
                  <a:srgbClr val="6c6c6c"/>
                </a:solidFill>
                <a:uFillTx/>
                <a:latin typeface="Trebuchet MS"/>
              </a:rPr>
              <a:t>history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of a group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s based upon the fossils that are available to stud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s based on identifying homologous (similarities due to a shared ancestor) and molecular sequences that provide evidence of common ancestr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enerally, organisms that share very similar morphologies or similar DNA sequences are likely to be closely related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6"/>
          <p:cNvGrpSpPr/>
          <p:nvPr/>
        </p:nvGrpSpPr>
        <p:grpSpPr>
          <a:xfrm>
            <a:off x="1913040" y="2208240"/>
            <a:ext cx="5732280" cy="4283280"/>
            <a:chOff x="1913040" y="2208240"/>
            <a:chExt cx="5732280" cy="4283280"/>
          </a:xfrm>
        </p:grpSpPr>
        <p:pic>
          <p:nvPicPr>
            <p:cNvPr id="332" name="Picture 5" descr="_x001f_15_06AnalagousStructures_UP.jpg                                001D11AA_x0007_Abhinav                        B9EC3DD1:"/>
            <p:cNvPicPr/>
            <p:nvPr/>
          </p:nvPicPr>
          <p:blipFill>
            <a:blip r:embed="rId1"/>
            <a:stretch/>
          </p:blipFill>
          <p:spPr>
            <a:xfrm>
              <a:off x="1913040" y="2208240"/>
              <a:ext cx="5732280" cy="41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Text Box 4"/>
            <p:cNvSpPr/>
            <p:nvPr/>
          </p:nvSpPr>
          <p:spPr>
            <a:xfrm>
              <a:off x="4251240" y="621504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5.6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6c6c6c"/>
                </a:solidFill>
                <a:uFillTx/>
                <a:latin typeface="Trebuchet MS"/>
              </a:rPr>
              <a:t>Analogous similaritie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sult from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rebuchet MS"/>
              </a:rPr>
              <a:t>convergent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evolution in similar environm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Species from different evolutionary branches may come to resemble another if they live in very similar environments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335" name="TextBox 5"/>
          <p:cNvSpPr/>
          <p:nvPr/>
        </p:nvSpPr>
        <p:spPr>
          <a:xfrm>
            <a:off x="0" y="2489040"/>
            <a:ext cx="2044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plants look similar (analogous) even though they are not closely relat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the left i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cotillo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lant that is grown in Baja Californi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the right i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llauidia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ch grows in the dessert of Madagasc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Systematic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volves the analytical study of diversity and phylogen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The evolutionary relationships between organisms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304920" y="685800"/>
            <a:ext cx="78739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5.7 Systematics connects classification with evolutionary hist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Linnaeus’ system was not based upon genealogy or evolutionary relationships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wo concepts of classification are still used today: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inomial nam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Two part Latinized name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ierarchical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axonomists assign a binomial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sisting of a genus (first part of the nam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nd  a species name (second part of the name), to each spec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 genus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y include a group of related spec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04560" y="685440"/>
            <a:ext cx="7839000" cy="22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74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Are Birds Really Dinosaurs with Feathers?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71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Did birds evolve from dinosaurs? Or did they evolve from of earlier group of reptiles that are more closely related to today’s crocs and alligators?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71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Evolutionary biologist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lnSpc>
                <a:spcPct val="80000"/>
              </a:lnSpc>
              <a:spcBef>
                <a:spcPts val="71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Have been pondering this question for decades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6" descr="_x001c_15_UN296Archaeopteryx_UP.jpg                                   0050D02E_x0003_203                            BE82D9B5:"/>
          <p:cNvPicPr/>
          <p:nvPr/>
        </p:nvPicPr>
        <p:blipFill>
          <a:blip r:embed="rId1"/>
          <a:stretch/>
        </p:blipFill>
        <p:spPr>
          <a:xfrm>
            <a:off x="2949480" y="2841480"/>
            <a:ext cx="3230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 genus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y include a group of related spec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Felis  is the group in which a cat belong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304920" y="685800"/>
            <a:ext cx="78105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Genera are </a:t>
            </a:r>
            <a:r>
              <a:rPr b="0" i="1" lang="en-US" sz="2300" spc="-1" strike="noStrike" u="sng">
                <a:solidFill>
                  <a:srgbClr val="6c6c6c"/>
                </a:solidFill>
                <a:uFillTx/>
                <a:latin typeface="Trebuchet MS"/>
              </a:rPr>
              <a:t>grouped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into progressively larger categorie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amily, order, class, phylum, kingdom, and domai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41" name="Group 46"/>
          <p:cNvGrpSpPr/>
          <p:nvPr/>
        </p:nvGrpSpPr>
        <p:grpSpPr>
          <a:xfrm>
            <a:off x="3056040" y="2413080"/>
            <a:ext cx="3943800" cy="3859200"/>
            <a:chOff x="3056040" y="2413080"/>
            <a:chExt cx="3943800" cy="3859200"/>
          </a:xfrm>
        </p:grpSpPr>
        <p:pic>
          <p:nvPicPr>
            <p:cNvPr id="342" name="Picture 6" descr="_x0016_15_07aTaxonomy_CNL.jpg                                         001D11AA_x0007_Abhinav                        B9EC3DD1:"/>
            <p:cNvPicPr/>
            <p:nvPr/>
          </p:nvPicPr>
          <p:blipFill>
            <a:blip r:embed="rId1"/>
            <a:stretch/>
          </p:blipFill>
          <p:spPr>
            <a:xfrm>
              <a:off x="3056040" y="2413080"/>
              <a:ext cx="3655800" cy="38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Text Box 7"/>
            <p:cNvSpPr/>
            <p:nvPr/>
          </p:nvSpPr>
          <p:spPr>
            <a:xfrm>
              <a:off x="5891040" y="2635200"/>
              <a:ext cx="657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pecies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8"/>
            <p:cNvSpPr/>
            <p:nvPr/>
          </p:nvSpPr>
          <p:spPr>
            <a:xfrm>
              <a:off x="5673240" y="3130560"/>
              <a:ext cx="57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enus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9"/>
            <p:cNvSpPr/>
            <p:nvPr/>
          </p:nvSpPr>
          <p:spPr>
            <a:xfrm>
              <a:off x="5383080" y="360216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amily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0"/>
            <p:cNvSpPr/>
            <p:nvPr/>
          </p:nvSpPr>
          <p:spPr>
            <a:xfrm>
              <a:off x="5114880" y="409248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rder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11"/>
            <p:cNvSpPr/>
            <p:nvPr/>
          </p:nvSpPr>
          <p:spPr>
            <a:xfrm>
              <a:off x="4854600" y="4567320"/>
              <a:ext cx="51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12"/>
            <p:cNvSpPr/>
            <p:nvPr/>
          </p:nvSpPr>
          <p:spPr>
            <a:xfrm>
              <a:off x="4543560" y="5035680"/>
              <a:ext cx="63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hylum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13"/>
            <p:cNvSpPr/>
            <p:nvPr/>
          </p:nvSpPr>
          <p:spPr>
            <a:xfrm>
              <a:off x="4269240" y="5530680"/>
              <a:ext cx="730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Kingdom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14"/>
            <p:cNvSpPr/>
            <p:nvPr/>
          </p:nvSpPr>
          <p:spPr>
            <a:xfrm>
              <a:off x="3970440" y="5958000"/>
              <a:ext cx="64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5"/>
            <p:cNvSpPr/>
            <p:nvPr/>
          </p:nvSpPr>
          <p:spPr>
            <a:xfrm>
              <a:off x="5850000" y="2832120"/>
              <a:ext cx="16992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6"/>
            <p:cNvSpPr/>
            <p:nvPr/>
          </p:nvSpPr>
          <p:spPr>
            <a:xfrm flipH="1">
              <a:off x="6141960" y="2832120"/>
              <a:ext cx="40176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17"/>
            <p:cNvSpPr/>
            <p:nvPr/>
          </p:nvSpPr>
          <p:spPr>
            <a:xfrm>
              <a:off x="6021360" y="304632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8"/>
            <p:cNvSpPr/>
            <p:nvPr/>
          </p:nvSpPr>
          <p:spPr>
            <a:xfrm>
              <a:off x="5818320" y="36036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9"/>
            <p:cNvSpPr/>
            <p:nvPr/>
          </p:nvSpPr>
          <p:spPr>
            <a:xfrm>
              <a:off x="5391000" y="401472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20"/>
            <p:cNvSpPr/>
            <p:nvPr/>
          </p:nvSpPr>
          <p:spPr>
            <a:xfrm>
              <a:off x="5289480" y="447984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21"/>
            <p:cNvSpPr/>
            <p:nvPr/>
          </p:nvSpPr>
          <p:spPr>
            <a:xfrm>
              <a:off x="4894200" y="498168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2"/>
            <p:cNvSpPr/>
            <p:nvPr/>
          </p:nvSpPr>
          <p:spPr>
            <a:xfrm>
              <a:off x="4724280" y="545616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23"/>
            <p:cNvSpPr/>
            <p:nvPr/>
          </p:nvSpPr>
          <p:spPr>
            <a:xfrm>
              <a:off x="4570560" y="592596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24"/>
            <p:cNvSpPr/>
            <p:nvPr/>
          </p:nvSpPr>
          <p:spPr>
            <a:xfrm>
              <a:off x="5472000" y="3311640"/>
              <a:ext cx="346320" cy="2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25"/>
            <p:cNvSpPr/>
            <p:nvPr/>
          </p:nvSpPr>
          <p:spPr>
            <a:xfrm flipH="1">
              <a:off x="5940000" y="3319560"/>
              <a:ext cx="42228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26"/>
            <p:cNvSpPr/>
            <p:nvPr/>
          </p:nvSpPr>
          <p:spPr>
            <a:xfrm flipV="1">
              <a:off x="5502240" y="3792600"/>
              <a:ext cx="66348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27"/>
            <p:cNvSpPr/>
            <p:nvPr/>
          </p:nvSpPr>
          <p:spPr>
            <a:xfrm>
              <a:off x="5095800" y="3794040"/>
              <a:ext cx="29232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28"/>
            <p:cNvSpPr/>
            <p:nvPr/>
          </p:nvSpPr>
          <p:spPr>
            <a:xfrm flipV="1">
              <a:off x="5400720" y="4276800"/>
              <a:ext cx="56520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9"/>
            <p:cNvSpPr/>
            <p:nvPr/>
          </p:nvSpPr>
          <p:spPr>
            <a:xfrm flipH="1" flipV="1">
              <a:off x="4711680" y="4271760"/>
              <a:ext cx="579600" cy="20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30"/>
            <p:cNvSpPr/>
            <p:nvPr/>
          </p:nvSpPr>
          <p:spPr>
            <a:xfrm flipV="1">
              <a:off x="5000760" y="4752720"/>
              <a:ext cx="79668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31"/>
            <p:cNvSpPr/>
            <p:nvPr/>
          </p:nvSpPr>
          <p:spPr>
            <a:xfrm flipH="1" flipV="1">
              <a:off x="4375080" y="4752720"/>
              <a:ext cx="52560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2"/>
            <p:cNvSpPr/>
            <p:nvPr/>
          </p:nvSpPr>
          <p:spPr>
            <a:xfrm flipV="1">
              <a:off x="4846680" y="5233680"/>
              <a:ext cx="75708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3"/>
            <p:cNvSpPr/>
            <p:nvPr/>
          </p:nvSpPr>
          <p:spPr>
            <a:xfrm flipH="1" flipV="1">
              <a:off x="4020840" y="5238720"/>
              <a:ext cx="70812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4"/>
            <p:cNvSpPr/>
            <p:nvPr/>
          </p:nvSpPr>
          <p:spPr>
            <a:xfrm flipV="1">
              <a:off x="4686480" y="5713560"/>
              <a:ext cx="74916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5"/>
            <p:cNvSpPr/>
            <p:nvPr/>
          </p:nvSpPr>
          <p:spPr>
            <a:xfrm flipH="1" flipV="1">
              <a:off x="3645000" y="5713200"/>
              <a:ext cx="92376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6"/>
            <p:cNvSpPr/>
            <p:nvPr/>
          </p:nvSpPr>
          <p:spPr>
            <a:xfrm>
              <a:off x="6516000" y="2486160"/>
              <a:ext cx="483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Felis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catus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37"/>
            <p:cNvSpPr/>
            <p:nvPr/>
          </p:nvSpPr>
          <p:spPr>
            <a:xfrm>
              <a:off x="6352560" y="302724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Felis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38"/>
            <p:cNvSpPr/>
            <p:nvPr/>
          </p:nvSpPr>
          <p:spPr>
            <a:xfrm>
              <a:off x="6165000" y="3522600"/>
              <a:ext cx="59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elida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39"/>
            <p:cNvSpPr/>
            <p:nvPr/>
          </p:nvSpPr>
          <p:spPr>
            <a:xfrm>
              <a:off x="5950440" y="3997440"/>
              <a:ext cx="729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nivor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40"/>
            <p:cNvSpPr/>
            <p:nvPr/>
          </p:nvSpPr>
          <p:spPr>
            <a:xfrm>
              <a:off x="5785920" y="4464000"/>
              <a:ext cx="76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mmali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41"/>
            <p:cNvSpPr/>
            <p:nvPr/>
          </p:nvSpPr>
          <p:spPr>
            <a:xfrm>
              <a:off x="5579640" y="4956120"/>
              <a:ext cx="700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ordat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2"/>
            <p:cNvSpPr/>
            <p:nvPr/>
          </p:nvSpPr>
          <p:spPr>
            <a:xfrm>
              <a:off x="5421600" y="5423040"/>
              <a:ext cx="66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imali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43"/>
            <p:cNvSpPr/>
            <p:nvPr/>
          </p:nvSpPr>
          <p:spPr>
            <a:xfrm>
              <a:off x="5193720" y="5859360"/>
              <a:ext cx="64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ukary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 Box 4"/>
          <p:cNvSpPr/>
          <p:nvPr/>
        </p:nvSpPr>
        <p:spPr>
          <a:xfrm>
            <a:off x="4340520" y="623088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7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5"/>
          <p:cNvGrpSpPr/>
          <p:nvPr/>
        </p:nvGrpSpPr>
        <p:grpSpPr>
          <a:xfrm>
            <a:off x="3174840" y="2070000"/>
            <a:ext cx="4319640" cy="4403880"/>
            <a:chOff x="3174840" y="2070000"/>
            <a:chExt cx="4319640" cy="4403880"/>
          </a:xfrm>
        </p:grpSpPr>
        <p:grpSp>
          <p:nvGrpSpPr>
            <p:cNvPr id="382" name="Group 24"/>
            <p:cNvGrpSpPr/>
            <p:nvPr/>
          </p:nvGrpSpPr>
          <p:grpSpPr>
            <a:xfrm>
              <a:off x="3174840" y="2070000"/>
              <a:ext cx="4319640" cy="4241880"/>
              <a:chOff x="3174840" y="2070000"/>
              <a:chExt cx="4319640" cy="4241880"/>
            </a:xfrm>
          </p:grpSpPr>
          <p:pic>
            <p:nvPicPr>
              <p:cNvPr id="383" name="Picture 6" descr="_x001e_15_07bCarnivoraPhylogeny_U.jpg                                 001D11AA_x0007_Abhinav                        B9EC3DD1:"/>
              <p:cNvPicPr/>
              <p:nvPr/>
            </p:nvPicPr>
            <p:blipFill>
              <a:blip r:embed="rId1"/>
              <a:stretch/>
            </p:blipFill>
            <p:spPr>
              <a:xfrm>
                <a:off x="3174840" y="2070000"/>
                <a:ext cx="4319640" cy="424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" name="Text Box 7"/>
              <p:cNvSpPr/>
              <p:nvPr/>
            </p:nvSpPr>
            <p:spPr>
              <a:xfrm>
                <a:off x="3289680" y="2408040"/>
                <a:ext cx="615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pecies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Text Box 8"/>
              <p:cNvSpPr/>
              <p:nvPr/>
            </p:nvSpPr>
            <p:spPr>
              <a:xfrm>
                <a:off x="3907080" y="2212920"/>
                <a:ext cx="678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Felis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catus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domestic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at)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9"/>
              <p:cNvSpPr/>
              <p:nvPr/>
            </p:nvSpPr>
            <p:spPr>
              <a:xfrm>
                <a:off x="4496040" y="2279520"/>
                <a:ext cx="936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Mephitis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mephitis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striped skunk)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Text Box 10"/>
              <p:cNvSpPr/>
              <p:nvPr/>
            </p:nvSpPr>
            <p:spPr>
              <a:xfrm>
                <a:off x="5345280" y="2212920"/>
                <a:ext cx="717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Lutra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lutra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European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tter)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Text Box 11"/>
              <p:cNvSpPr/>
              <p:nvPr/>
            </p:nvSpPr>
            <p:spPr>
              <a:xfrm>
                <a:off x="5963760" y="2271600"/>
                <a:ext cx="9410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Canis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familiaris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domestic dog)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12"/>
              <p:cNvSpPr/>
              <p:nvPr/>
            </p:nvSpPr>
            <p:spPr>
              <a:xfrm>
                <a:off x="6795360" y="2290680"/>
                <a:ext cx="47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Canis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lupus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wolf)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Text Box 13"/>
              <p:cNvSpPr/>
              <p:nvPr/>
            </p:nvSpPr>
            <p:spPr>
              <a:xfrm>
                <a:off x="3312720" y="4357440"/>
                <a:ext cx="537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Genus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Text Box 14"/>
              <p:cNvSpPr/>
              <p:nvPr/>
            </p:nvSpPr>
            <p:spPr>
              <a:xfrm>
                <a:off x="3316680" y="4991040"/>
                <a:ext cx="54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Family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Text Box 15"/>
              <p:cNvSpPr/>
              <p:nvPr/>
            </p:nvSpPr>
            <p:spPr>
              <a:xfrm>
                <a:off x="3338640" y="5780160"/>
                <a:ext cx="4917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Text Box 16"/>
              <p:cNvSpPr/>
              <p:nvPr/>
            </p:nvSpPr>
            <p:spPr>
              <a:xfrm>
                <a:off x="4029480" y="4351320"/>
                <a:ext cx="4244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Felis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17"/>
              <p:cNvSpPr/>
              <p:nvPr/>
            </p:nvSpPr>
            <p:spPr>
              <a:xfrm>
                <a:off x="3965400" y="4983120"/>
                <a:ext cx="5587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elidae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18"/>
              <p:cNvSpPr/>
              <p:nvPr/>
            </p:nvSpPr>
            <p:spPr>
              <a:xfrm>
                <a:off x="4938840" y="5771880"/>
                <a:ext cx="678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arnivora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Text Box 19"/>
              <p:cNvSpPr/>
              <p:nvPr/>
            </p:nvSpPr>
            <p:spPr>
              <a:xfrm>
                <a:off x="4913280" y="4989240"/>
                <a:ext cx="736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ustelidae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Text Box 20"/>
              <p:cNvSpPr/>
              <p:nvPr/>
            </p:nvSpPr>
            <p:spPr>
              <a:xfrm>
                <a:off x="4630680" y="4349520"/>
                <a:ext cx="609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Mephitis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21"/>
              <p:cNvSpPr/>
              <p:nvPr/>
            </p:nvSpPr>
            <p:spPr>
              <a:xfrm>
                <a:off x="5387040" y="434808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Lutra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Text Box 22"/>
              <p:cNvSpPr/>
              <p:nvPr/>
            </p:nvSpPr>
            <p:spPr>
              <a:xfrm>
                <a:off x="6455520" y="4349520"/>
                <a:ext cx="4748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Canis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23"/>
              <p:cNvSpPr/>
              <p:nvPr/>
            </p:nvSpPr>
            <p:spPr>
              <a:xfrm>
                <a:off x="6413760" y="4981320"/>
                <a:ext cx="609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anidae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Text Box 4"/>
            <p:cNvSpPr/>
            <p:nvPr/>
          </p:nvSpPr>
          <p:spPr>
            <a:xfrm>
              <a:off x="4735800" y="619740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5.7B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"/>
          <p:cNvSpPr txBox="1"/>
          <p:nvPr/>
        </p:nvSpPr>
        <p:spPr>
          <a:xfrm>
            <a:off x="304560" y="685440"/>
            <a:ext cx="78231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 phylogenetic tre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s a hypothesis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rebuchet MS"/>
              </a:rPr>
              <a:t>evolutionary relationship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se branching diagrams reflect the hierarchical classification of groups nested within more inclusive group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3" name="TextBox 23"/>
          <p:cNvSpPr/>
          <p:nvPr/>
        </p:nvSpPr>
        <p:spPr>
          <a:xfrm>
            <a:off x="254160" y="3073320"/>
            <a:ext cx="2984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highest, or most inclusive taxon is at the botto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branch represents the divergence of two lineages from a common ancesto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Using figure 15.7A How much of the classification do we share with the domestic cat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04920" y="685440"/>
            <a:ext cx="7912080" cy="25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5.8 Cladograms are diagrams based on shared characters among speci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Cladistics uses shared derived character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o define monophyletic tax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dentifying ‘clades’ provides branching patterns of evolu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07" name="Group 33"/>
          <p:cNvGrpSpPr/>
          <p:nvPr/>
        </p:nvGrpSpPr>
        <p:grpSpPr>
          <a:xfrm>
            <a:off x="2440080" y="3036960"/>
            <a:ext cx="4292640" cy="3483000"/>
            <a:chOff x="2440080" y="3036960"/>
            <a:chExt cx="4292640" cy="3483000"/>
          </a:xfrm>
        </p:grpSpPr>
        <p:pic>
          <p:nvPicPr>
            <p:cNvPr id="408" name="Picture 7" descr="_x0015_15_08aCladogram_U.jpg                                          001D11AA_x0007_Abhinav                        B9EC3DD1:"/>
            <p:cNvPicPr/>
            <p:nvPr/>
          </p:nvPicPr>
          <p:blipFill>
            <a:blip r:embed="rId1"/>
            <a:stretch/>
          </p:blipFill>
          <p:spPr>
            <a:xfrm>
              <a:off x="2440080" y="3438360"/>
              <a:ext cx="429264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AutoShape 8"/>
            <p:cNvSpPr/>
            <p:nvPr/>
          </p:nvSpPr>
          <p:spPr>
            <a:xfrm flipV="1" rot="16200000">
              <a:off x="4476240" y="2301840"/>
              <a:ext cx="60480" cy="2314440"/>
            </a:xfrm>
            <a:custGeom>
              <a:avLst/>
              <a:gdLst>
                <a:gd name="textAreaLeft" fmla="*/ 0 w 60480"/>
                <a:gd name="textAreaRight" fmla="*/ 21960 w 60480"/>
                <a:gd name="textAreaTop" fmla="*/ 60120 h 2314440"/>
                <a:gd name="textAreaBottom" fmla="*/ 2254320 h 23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9"/>
            <p:cNvSpPr/>
            <p:nvPr/>
          </p:nvSpPr>
          <p:spPr>
            <a:xfrm>
              <a:off x="3504240" y="3036960"/>
              <a:ext cx="442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axa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10"/>
            <p:cNvSpPr/>
            <p:nvPr/>
          </p:nvSpPr>
          <p:spPr>
            <a:xfrm>
              <a:off x="4176720" y="309564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group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Mammals)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11"/>
            <p:cNvSpPr/>
            <p:nvPr/>
          </p:nvSpPr>
          <p:spPr>
            <a:xfrm>
              <a:off x="2576520" y="31748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group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Reptiles)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12"/>
            <p:cNvSpPr/>
            <p:nvPr/>
          </p:nvSpPr>
          <p:spPr>
            <a:xfrm>
              <a:off x="2612520" y="3956040"/>
              <a:ext cx="79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astern box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urtle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13"/>
            <p:cNvSpPr/>
            <p:nvPr/>
          </p:nvSpPr>
          <p:spPr>
            <a:xfrm>
              <a:off x="3377520" y="394812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uck-billed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latypu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14"/>
            <p:cNvSpPr/>
            <p:nvPr/>
          </p:nvSpPr>
          <p:spPr>
            <a:xfrm>
              <a:off x="4075920" y="3956040"/>
              <a:ext cx="903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d kangaro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15"/>
            <p:cNvSpPr/>
            <p:nvPr/>
          </p:nvSpPr>
          <p:spPr>
            <a:xfrm>
              <a:off x="4824360" y="3956040"/>
              <a:ext cx="9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orth American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eaver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6"/>
            <p:cNvSpPr/>
            <p:nvPr/>
          </p:nvSpPr>
          <p:spPr>
            <a:xfrm>
              <a:off x="5758560" y="3963960"/>
              <a:ext cx="779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haracter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17"/>
            <p:cNvSpPr/>
            <p:nvPr/>
          </p:nvSpPr>
          <p:spPr>
            <a:xfrm>
              <a:off x="5513400" y="4316400"/>
              <a:ext cx="936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ong gestation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18"/>
            <p:cNvSpPr/>
            <p:nvPr/>
          </p:nvSpPr>
          <p:spPr>
            <a:xfrm>
              <a:off x="5668920" y="4508640"/>
              <a:ext cx="672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station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19"/>
            <p:cNvSpPr/>
            <p:nvPr/>
          </p:nvSpPr>
          <p:spPr>
            <a:xfrm>
              <a:off x="5292360" y="4692600"/>
              <a:ext cx="1334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air, mammary gland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0"/>
            <p:cNvSpPr/>
            <p:nvPr/>
          </p:nvSpPr>
          <p:spPr>
            <a:xfrm>
              <a:off x="4991040" y="5108400"/>
              <a:ext cx="936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ong gestation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21"/>
            <p:cNvSpPr/>
            <p:nvPr/>
          </p:nvSpPr>
          <p:spPr>
            <a:xfrm>
              <a:off x="4497480" y="5423040"/>
              <a:ext cx="672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station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2"/>
            <p:cNvSpPr/>
            <p:nvPr/>
          </p:nvSpPr>
          <p:spPr>
            <a:xfrm>
              <a:off x="3997080" y="5729400"/>
              <a:ext cx="1334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air, mammary gland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3"/>
            <p:cNvSpPr/>
            <p:nvPr/>
          </p:nvSpPr>
          <p:spPr>
            <a:xfrm>
              <a:off x="3491640" y="6075360"/>
              <a:ext cx="1049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Vertebral column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24"/>
            <p:cNvSpPr/>
            <p:nvPr/>
          </p:nvSpPr>
          <p:spPr>
            <a:xfrm>
              <a:off x="5412600" y="4884840"/>
              <a:ext cx="1049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Vertebral column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4"/>
            <p:cNvSpPr/>
            <p:nvPr/>
          </p:nvSpPr>
          <p:spPr>
            <a:xfrm>
              <a:off x="4111920" y="624348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5.8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5"/>
            <p:cNvSpPr/>
            <p:nvPr/>
          </p:nvSpPr>
          <p:spPr>
            <a:xfrm>
              <a:off x="5059080" y="52768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26"/>
            <p:cNvSpPr/>
            <p:nvPr/>
          </p:nvSpPr>
          <p:spPr>
            <a:xfrm>
              <a:off x="4592520" y="5591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27"/>
            <p:cNvSpPr/>
            <p:nvPr/>
          </p:nvSpPr>
          <p:spPr>
            <a:xfrm>
              <a:off x="4089240" y="59212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30"/>
            <p:cNvSpPr/>
            <p:nvPr/>
          </p:nvSpPr>
          <p:spPr>
            <a:xfrm>
              <a:off x="4743360" y="523728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31"/>
            <p:cNvSpPr/>
            <p:nvPr/>
          </p:nvSpPr>
          <p:spPr>
            <a:xfrm>
              <a:off x="3768840" y="5878440"/>
              <a:ext cx="183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32"/>
            <p:cNvSpPr/>
            <p:nvPr/>
          </p:nvSpPr>
          <p:spPr>
            <a:xfrm>
              <a:off x="4273560" y="554832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304920" y="685800"/>
            <a:ext cx="7797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Shared derived characteristic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roups that share a new, or derived, trait are more closely related to each other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Shared primitive character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raits present in the ancestral group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34" name="Group 33"/>
          <p:cNvGrpSpPr/>
          <p:nvPr/>
        </p:nvGrpSpPr>
        <p:grpSpPr>
          <a:xfrm>
            <a:off x="2440080" y="3036960"/>
            <a:ext cx="4292640" cy="3483000"/>
            <a:chOff x="2440080" y="3036960"/>
            <a:chExt cx="4292640" cy="3483000"/>
          </a:xfrm>
        </p:grpSpPr>
        <p:pic>
          <p:nvPicPr>
            <p:cNvPr id="435" name="Picture 7" descr="_x0015_15_08aCladogram_U.jpg                                          001D11AA_x0007_Abhinav                        B9EC3DD1:"/>
            <p:cNvPicPr/>
            <p:nvPr/>
          </p:nvPicPr>
          <p:blipFill>
            <a:blip r:embed="rId1"/>
            <a:stretch/>
          </p:blipFill>
          <p:spPr>
            <a:xfrm>
              <a:off x="2440080" y="3438360"/>
              <a:ext cx="429264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AutoShape 8"/>
            <p:cNvSpPr/>
            <p:nvPr/>
          </p:nvSpPr>
          <p:spPr>
            <a:xfrm flipV="1" rot="16200000">
              <a:off x="4476240" y="2301840"/>
              <a:ext cx="60480" cy="2314440"/>
            </a:xfrm>
            <a:custGeom>
              <a:avLst/>
              <a:gdLst>
                <a:gd name="textAreaLeft" fmla="*/ 0 w 60480"/>
                <a:gd name="textAreaRight" fmla="*/ 21960 w 60480"/>
                <a:gd name="textAreaTop" fmla="*/ 60120 h 2314440"/>
                <a:gd name="textAreaBottom" fmla="*/ 2254320 h 23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9"/>
            <p:cNvSpPr/>
            <p:nvPr/>
          </p:nvSpPr>
          <p:spPr>
            <a:xfrm>
              <a:off x="3504240" y="3036960"/>
              <a:ext cx="442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axa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10"/>
            <p:cNvSpPr/>
            <p:nvPr/>
          </p:nvSpPr>
          <p:spPr>
            <a:xfrm>
              <a:off x="4176720" y="309564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group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Mammals)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11"/>
            <p:cNvSpPr/>
            <p:nvPr/>
          </p:nvSpPr>
          <p:spPr>
            <a:xfrm>
              <a:off x="2576520" y="31748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group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Reptiles)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12"/>
            <p:cNvSpPr/>
            <p:nvPr/>
          </p:nvSpPr>
          <p:spPr>
            <a:xfrm>
              <a:off x="2612520" y="3956040"/>
              <a:ext cx="79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astern box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urtle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13"/>
            <p:cNvSpPr/>
            <p:nvPr/>
          </p:nvSpPr>
          <p:spPr>
            <a:xfrm>
              <a:off x="3377520" y="394812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uck-billed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latypu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14"/>
            <p:cNvSpPr/>
            <p:nvPr/>
          </p:nvSpPr>
          <p:spPr>
            <a:xfrm>
              <a:off x="4075920" y="3956040"/>
              <a:ext cx="903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d kangaro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5"/>
            <p:cNvSpPr/>
            <p:nvPr/>
          </p:nvSpPr>
          <p:spPr>
            <a:xfrm>
              <a:off x="4824360" y="3956040"/>
              <a:ext cx="9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orth American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eaver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16"/>
            <p:cNvSpPr/>
            <p:nvPr/>
          </p:nvSpPr>
          <p:spPr>
            <a:xfrm>
              <a:off x="5758560" y="3963960"/>
              <a:ext cx="779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haracter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7"/>
            <p:cNvSpPr/>
            <p:nvPr/>
          </p:nvSpPr>
          <p:spPr>
            <a:xfrm>
              <a:off x="5513400" y="4316400"/>
              <a:ext cx="936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ong gestation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8"/>
            <p:cNvSpPr/>
            <p:nvPr/>
          </p:nvSpPr>
          <p:spPr>
            <a:xfrm>
              <a:off x="5668920" y="4508640"/>
              <a:ext cx="672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station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19"/>
            <p:cNvSpPr/>
            <p:nvPr/>
          </p:nvSpPr>
          <p:spPr>
            <a:xfrm>
              <a:off x="5292360" y="4692600"/>
              <a:ext cx="1334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air, mammary gland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20"/>
            <p:cNvSpPr/>
            <p:nvPr/>
          </p:nvSpPr>
          <p:spPr>
            <a:xfrm>
              <a:off x="4991040" y="5108400"/>
              <a:ext cx="936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ong gestation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21"/>
            <p:cNvSpPr/>
            <p:nvPr/>
          </p:nvSpPr>
          <p:spPr>
            <a:xfrm>
              <a:off x="4497480" y="5423040"/>
              <a:ext cx="672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station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22"/>
            <p:cNvSpPr/>
            <p:nvPr/>
          </p:nvSpPr>
          <p:spPr>
            <a:xfrm>
              <a:off x="3997080" y="5729400"/>
              <a:ext cx="1334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air, mammary gland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23"/>
            <p:cNvSpPr/>
            <p:nvPr/>
          </p:nvSpPr>
          <p:spPr>
            <a:xfrm>
              <a:off x="3491640" y="6075360"/>
              <a:ext cx="1049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Vertebral column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24"/>
            <p:cNvSpPr/>
            <p:nvPr/>
          </p:nvSpPr>
          <p:spPr>
            <a:xfrm>
              <a:off x="5412600" y="4884840"/>
              <a:ext cx="1049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Vertebral column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4"/>
            <p:cNvSpPr/>
            <p:nvPr/>
          </p:nvSpPr>
          <p:spPr>
            <a:xfrm>
              <a:off x="4111920" y="624348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5.8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25"/>
            <p:cNvSpPr/>
            <p:nvPr/>
          </p:nvSpPr>
          <p:spPr>
            <a:xfrm>
              <a:off x="5059080" y="52768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26"/>
            <p:cNvSpPr/>
            <p:nvPr/>
          </p:nvSpPr>
          <p:spPr>
            <a:xfrm>
              <a:off x="4592520" y="5591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27"/>
            <p:cNvSpPr/>
            <p:nvPr/>
          </p:nvSpPr>
          <p:spPr>
            <a:xfrm>
              <a:off x="4089240" y="59212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30"/>
            <p:cNvSpPr/>
            <p:nvPr/>
          </p:nvSpPr>
          <p:spPr>
            <a:xfrm>
              <a:off x="4743360" y="523728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31"/>
            <p:cNvSpPr/>
            <p:nvPr/>
          </p:nvSpPr>
          <p:spPr>
            <a:xfrm>
              <a:off x="3768840" y="5878440"/>
              <a:ext cx="183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32"/>
            <p:cNvSpPr/>
            <p:nvPr/>
          </p:nvSpPr>
          <p:spPr>
            <a:xfrm>
              <a:off x="4273560" y="554832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TextBox 28"/>
          <p:cNvSpPr/>
          <p:nvPr/>
        </p:nvSpPr>
        <p:spPr>
          <a:xfrm>
            <a:off x="152280" y="3238560"/>
            <a:ext cx="237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dogram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llustrate patterns of shared characteristic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e simplest (most parsimonious) hypothesi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reates the most likely phylogenetic tre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62" name="Group 13"/>
          <p:cNvGrpSpPr/>
          <p:nvPr/>
        </p:nvGrpSpPr>
        <p:grpSpPr>
          <a:xfrm>
            <a:off x="469800" y="2165400"/>
            <a:ext cx="7953480" cy="3668760"/>
            <a:chOff x="469800" y="2165400"/>
            <a:chExt cx="7953480" cy="3668760"/>
          </a:xfrm>
        </p:grpSpPr>
        <p:sp>
          <p:nvSpPr>
            <p:cNvPr id="463" name="Text Box 4"/>
            <p:cNvSpPr/>
            <p:nvPr/>
          </p:nvSpPr>
          <p:spPr>
            <a:xfrm>
              <a:off x="3959280" y="555768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5.8B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" name="Group 12"/>
            <p:cNvGrpSpPr/>
            <p:nvPr/>
          </p:nvGrpSpPr>
          <p:grpSpPr>
            <a:xfrm>
              <a:off x="469800" y="2165400"/>
              <a:ext cx="7953480" cy="3319920"/>
              <a:chOff x="469800" y="2165400"/>
              <a:chExt cx="7953480" cy="3319920"/>
            </a:xfrm>
          </p:grpSpPr>
          <p:pic>
            <p:nvPicPr>
              <p:cNvPr id="465" name="Picture 6" descr="_x001c_15_08bReptilePhylogeny_U.jpg                                   001D11AA_x0007_Abhinav                        B9EC3DD1:"/>
              <p:cNvPicPr/>
              <p:nvPr/>
            </p:nvPicPr>
            <p:blipFill>
              <a:blip r:embed="rId1"/>
              <a:stretch/>
            </p:blipFill>
            <p:spPr>
              <a:xfrm>
                <a:off x="469800" y="2165400"/>
                <a:ext cx="7953480" cy="325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6" name="Text Box 7"/>
              <p:cNvSpPr/>
              <p:nvPr/>
            </p:nvSpPr>
            <p:spPr>
              <a:xfrm>
                <a:off x="809280" y="3224160"/>
                <a:ext cx="75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izards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Text Box 8"/>
              <p:cNvSpPr/>
              <p:nvPr/>
            </p:nvSpPr>
            <p:spPr>
              <a:xfrm>
                <a:off x="2732040" y="32097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nakes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9"/>
              <p:cNvSpPr/>
              <p:nvPr/>
            </p:nvSpPr>
            <p:spPr>
              <a:xfrm>
                <a:off x="5254200" y="3222360"/>
                <a:ext cx="1023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rocodiles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Text Box 10"/>
              <p:cNvSpPr/>
              <p:nvPr/>
            </p:nvSpPr>
            <p:spPr>
              <a:xfrm>
                <a:off x="7530120" y="3222360"/>
                <a:ext cx="587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irds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Text Box 11"/>
              <p:cNvSpPr/>
              <p:nvPr/>
            </p:nvSpPr>
            <p:spPr>
              <a:xfrm>
                <a:off x="3360240" y="5178240"/>
                <a:ext cx="231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mmon reptilian ancestor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37"/>
          <p:cNvGrpSpPr/>
          <p:nvPr/>
        </p:nvGrpSpPr>
        <p:grpSpPr>
          <a:xfrm>
            <a:off x="1571760" y="3252960"/>
            <a:ext cx="6208560" cy="3224160"/>
            <a:chOff x="1571760" y="3252960"/>
            <a:chExt cx="6208560" cy="3224160"/>
          </a:xfrm>
        </p:grpSpPr>
        <p:pic>
          <p:nvPicPr>
            <p:cNvPr id="472" name="Picture 7" descr="_x001e_15_09aMolecularPhylogeny_U.jpg                                 00045B47&#10; RKAUL-5                       BCE4327F:"/>
            <p:cNvPicPr/>
            <p:nvPr/>
          </p:nvPicPr>
          <p:blipFill>
            <a:blip r:embed="rId1"/>
            <a:stretch/>
          </p:blipFill>
          <p:spPr>
            <a:xfrm>
              <a:off x="2573280" y="3252960"/>
              <a:ext cx="5207040" cy="32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Text Box 9"/>
            <p:cNvSpPr/>
            <p:nvPr/>
          </p:nvSpPr>
          <p:spPr>
            <a:xfrm>
              <a:off x="2829600" y="3443400"/>
              <a:ext cx="630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rown bear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10"/>
            <p:cNvSpPr/>
            <p:nvPr/>
          </p:nvSpPr>
          <p:spPr>
            <a:xfrm>
              <a:off x="3548160" y="3392640"/>
              <a:ext cx="38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olar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ear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11"/>
            <p:cNvSpPr/>
            <p:nvPr/>
          </p:nvSpPr>
          <p:spPr>
            <a:xfrm>
              <a:off x="3908160" y="3336840"/>
              <a:ext cx="44136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siati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lack 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ear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12"/>
            <p:cNvSpPr/>
            <p:nvPr/>
          </p:nvSpPr>
          <p:spPr>
            <a:xfrm>
              <a:off x="4299480" y="3402000"/>
              <a:ext cx="5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merican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lack bear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13"/>
            <p:cNvSpPr/>
            <p:nvPr/>
          </p:nvSpPr>
          <p:spPr>
            <a:xfrm>
              <a:off x="4927320" y="3430440"/>
              <a:ext cx="35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ear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4"/>
            <p:cNvSpPr/>
            <p:nvPr/>
          </p:nvSpPr>
          <p:spPr>
            <a:xfrm>
              <a:off x="5254920" y="3430440"/>
              <a:ext cx="38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lot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ear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15"/>
            <p:cNvSpPr/>
            <p:nvPr/>
          </p:nvSpPr>
          <p:spPr>
            <a:xfrm>
              <a:off x="5619240" y="343044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pectacled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ear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16"/>
            <p:cNvSpPr/>
            <p:nvPr/>
          </p:nvSpPr>
          <p:spPr>
            <a:xfrm>
              <a:off x="6208560" y="3357720"/>
              <a:ext cx="42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iant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anda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17"/>
            <p:cNvSpPr/>
            <p:nvPr/>
          </p:nvSpPr>
          <p:spPr>
            <a:xfrm>
              <a:off x="6630480" y="3444840"/>
              <a:ext cx="528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accoon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18"/>
            <p:cNvSpPr/>
            <p:nvPr/>
          </p:nvSpPr>
          <p:spPr>
            <a:xfrm>
              <a:off x="7128000" y="3435480"/>
              <a:ext cx="44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esser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anda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19"/>
            <p:cNvSpPr/>
            <p:nvPr/>
          </p:nvSpPr>
          <p:spPr>
            <a:xfrm>
              <a:off x="2612160" y="4087800"/>
              <a:ext cx="636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leistocen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20"/>
            <p:cNvSpPr/>
            <p:nvPr/>
          </p:nvSpPr>
          <p:spPr>
            <a:xfrm>
              <a:off x="2660400" y="4214880"/>
              <a:ext cx="519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liocen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21"/>
            <p:cNvSpPr/>
            <p:nvPr/>
          </p:nvSpPr>
          <p:spPr>
            <a:xfrm>
              <a:off x="2937600" y="4549680"/>
              <a:ext cx="278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22"/>
            <p:cNvSpPr/>
            <p:nvPr/>
          </p:nvSpPr>
          <p:spPr>
            <a:xfrm>
              <a:off x="2937600" y="4813200"/>
              <a:ext cx="278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23"/>
            <p:cNvSpPr/>
            <p:nvPr/>
          </p:nvSpPr>
          <p:spPr>
            <a:xfrm>
              <a:off x="2937600" y="5073480"/>
              <a:ext cx="278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24"/>
            <p:cNvSpPr/>
            <p:nvPr/>
          </p:nvSpPr>
          <p:spPr>
            <a:xfrm>
              <a:off x="2937600" y="5345280"/>
              <a:ext cx="278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25"/>
            <p:cNvSpPr/>
            <p:nvPr/>
          </p:nvSpPr>
          <p:spPr>
            <a:xfrm>
              <a:off x="2937600" y="5591160"/>
              <a:ext cx="278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 Box 26"/>
            <p:cNvSpPr/>
            <p:nvPr/>
          </p:nvSpPr>
          <p:spPr>
            <a:xfrm>
              <a:off x="2937600" y="5854680"/>
              <a:ext cx="278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27"/>
            <p:cNvSpPr/>
            <p:nvPr/>
          </p:nvSpPr>
          <p:spPr>
            <a:xfrm>
              <a:off x="2937600" y="6116760"/>
              <a:ext cx="278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28"/>
            <p:cNvSpPr/>
            <p:nvPr/>
          </p:nvSpPr>
          <p:spPr>
            <a:xfrm rot="16200000">
              <a:off x="2674080" y="5748480"/>
              <a:ext cx="5770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ligocen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29"/>
            <p:cNvSpPr/>
            <p:nvPr/>
          </p:nvSpPr>
          <p:spPr>
            <a:xfrm rot="16200000">
              <a:off x="2688480" y="4712400"/>
              <a:ext cx="513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iocen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30"/>
            <p:cNvSpPr/>
            <p:nvPr/>
          </p:nvSpPr>
          <p:spPr>
            <a:xfrm rot="16200000">
              <a:off x="2323800" y="5209560"/>
              <a:ext cx="982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illions of years ago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31"/>
            <p:cNvSpPr/>
            <p:nvPr/>
          </p:nvSpPr>
          <p:spPr>
            <a:xfrm>
              <a:off x="5620680" y="5292720"/>
              <a:ext cx="483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rsida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32"/>
            <p:cNvSpPr/>
            <p:nvPr/>
          </p:nvSpPr>
          <p:spPr>
            <a:xfrm>
              <a:off x="6696000" y="5567400"/>
              <a:ext cx="66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rocyonida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33"/>
            <p:cNvSpPr/>
            <p:nvPr/>
          </p:nvSpPr>
          <p:spPr>
            <a:xfrm>
              <a:off x="5965200" y="6060960"/>
              <a:ext cx="918360" cy="2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mmon ancestral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rnivorans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4"/>
            <p:cNvSpPr/>
            <p:nvPr/>
          </p:nvSpPr>
          <p:spPr>
            <a:xfrm>
              <a:off x="1571760" y="61801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5.9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 txBox="1"/>
          <p:nvPr/>
        </p:nvSpPr>
        <p:spPr>
          <a:xfrm>
            <a:off x="304920" y="685440"/>
            <a:ext cx="8534160" cy="27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5.9 Molecular biology is a powerful tool in systematic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rebuchet MS"/>
              </a:rPr>
              <a:t>Molecular systematics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evelops phylogenetic hypotheses based on molecular comparison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Studies of ribosomal RNA sequence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ave shown that humans are more closely related to fungi than to green pla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01" name="Group 12"/>
          <p:cNvGrpSpPr/>
          <p:nvPr/>
        </p:nvGrpSpPr>
        <p:grpSpPr>
          <a:xfrm>
            <a:off x="1116000" y="2357280"/>
            <a:ext cx="7130880" cy="4073760"/>
            <a:chOff x="1116000" y="2357280"/>
            <a:chExt cx="7130880" cy="4073760"/>
          </a:xfrm>
        </p:grpSpPr>
        <p:grpSp>
          <p:nvGrpSpPr>
            <p:cNvPr id="502" name="Group 11"/>
            <p:cNvGrpSpPr/>
            <p:nvPr/>
          </p:nvGrpSpPr>
          <p:grpSpPr>
            <a:xfrm>
              <a:off x="1116000" y="2357280"/>
              <a:ext cx="7130880" cy="3858120"/>
              <a:chOff x="1116000" y="2357280"/>
              <a:chExt cx="7130880" cy="3858120"/>
            </a:xfrm>
          </p:grpSpPr>
          <p:pic>
            <p:nvPicPr>
              <p:cNvPr id="503" name="Picture 6" descr="_x001f_15_09bPhylogHumPlantFungi_U.jpg                                00045B47&#10; RKAUL-5                       BCE4327F:"/>
              <p:cNvPicPr/>
              <p:nvPr/>
            </p:nvPicPr>
            <p:blipFill>
              <a:blip r:embed="rId1"/>
              <a:stretch/>
            </p:blipFill>
            <p:spPr>
              <a:xfrm>
                <a:off x="1116000" y="2455920"/>
                <a:ext cx="7130880" cy="357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4" name="Text Box 7"/>
              <p:cNvSpPr/>
              <p:nvPr/>
            </p:nvSpPr>
            <p:spPr>
              <a:xfrm>
                <a:off x="1196280" y="2357280"/>
                <a:ext cx="709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udent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8"/>
              <p:cNvSpPr/>
              <p:nvPr/>
            </p:nvSpPr>
            <p:spPr>
              <a:xfrm>
                <a:off x="4208400" y="2357280"/>
                <a:ext cx="901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ushroom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Text Box 9"/>
              <p:cNvSpPr/>
              <p:nvPr/>
            </p:nvSpPr>
            <p:spPr>
              <a:xfrm>
                <a:off x="7217280" y="2357280"/>
                <a:ext cx="511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ulip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Text Box 10"/>
              <p:cNvSpPr/>
              <p:nvPr/>
            </p:nvSpPr>
            <p:spPr>
              <a:xfrm>
                <a:off x="4651200" y="5938920"/>
                <a:ext cx="1428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mmon ancestor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Text Box 4"/>
            <p:cNvSpPr/>
            <p:nvPr/>
          </p:nvSpPr>
          <p:spPr>
            <a:xfrm>
              <a:off x="4467240" y="615456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5.9B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304920" y="685440"/>
            <a:ext cx="8534160" cy="31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DNA Comparison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Molecular comparisons of nucleic acid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ften pose technical challeng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n reveal the most fundamental similarities or differences between spec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Recent fossil find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this notion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1861 Archaeopteryx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26" name="Picture 5" descr="_x001a_15_UN297Microraptor_UP.jpg                                     0050D02E_x0003_203                            BE82D9B5:"/>
          <p:cNvPicPr/>
          <p:nvPr/>
        </p:nvPicPr>
        <p:blipFill>
          <a:blip r:embed="rId1"/>
          <a:stretch/>
        </p:blipFill>
        <p:spPr>
          <a:xfrm>
            <a:off x="1778040" y="2286000"/>
            <a:ext cx="55548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04920" y="685800"/>
            <a:ext cx="8534160" cy="29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Molecular Clock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3172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Some regions of DN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106200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hange at a rate consistent enough to serve as molecular clocks to date evolutionary ev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04920" y="685800"/>
            <a:ext cx="853416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876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Genome Evolu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814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rebuchet MS"/>
              </a:rPr>
              <a:t>Homologous genes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814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e found in many speci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12" name="Group 14"/>
          <p:cNvGrpSpPr/>
          <p:nvPr/>
        </p:nvGrpSpPr>
        <p:grpSpPr>
          <a:xfrm>
            <a:off x="1241280" y="2449440"/>
            <a:ext cx="6602400" cy="3978720"/>
            <a:chOff x="1241280" y="2449440"/>
            <a:chExt cx="6602400" cy="3978720"/>
          </a:xfrm>
        </p:grpSpPr>
        <p:grpSp>
          <p:nvGrpSpPr>
            <p:cNvPr id="513" name="Group 12"/>
            <p:cNvGrpSpPr/>
            <p:nvPr/>
          </p:nvGrpSpPr>
          <p:grpSpPr>
            <a:xfrm>
              <a:off x="1241280" y="2449440"/>
              <a:ext cx="6602400" cy="3978720"/>
              <a:chOff x="1241280" y="2449440"/>
              <a:chExt cx="6602400" cy="3978720"/>
            </a:xfrm>
          </p:grpSpPr>
          <p:pic>
            <p:nvPicPr>
              <p:cNvPr id="514" name="Picture 6" descr="_x001d_15_09cHominoidPhylogeny_U.jpg                                  00045B47&#10; RKAUL-5                       BCE4327F:"/>
              <p:cNvPicPr/>
              <p:nvPr/>
            </p:nvPicPr>
            <p:blipFill>
              <a:blip r:embed="rId1"/>
              <a:stretch/>
            </p:blipFill>
            <p:spPr>
              <a:xfrm>
                <a:off x="1241280" y="2521800"/>
                <a:ext cx="6602400" cy="375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5" name="Text Box 7"/>
              <p:cNvSpPr/>
              <p:nvPr/>
            </p:nvSpPr>
            <p:spPr>
              <a:xfrm>
                <a:off x="1613880" y="2449440"/>
                <a:ext cx="71100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Human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Text Box 8"/>
              <p:cNvSpPr/>
              <p:nvPr/>
            </p:nvSpPr>
            <p:spPr>
              <a:xfrm>
                <a:off x="3145680" y="2460600"/>
                <a:ext cx="11041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himpanzee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Text Box 9"/>
              <p:cNvSpPr/>
              <p:nvPr/>
            </p:nvSpPr>
            <p:spPr>
              <a:xfrm>
                <a:off x="4863240" y="2460600"/>
                <a:ext cx="65628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Gorilla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10"/>
              <p:cNvSpPr/>
              <p:nvPr/>
            </p:nvSpPr>
            <p:spPr>
              <a:xfrm>
                <a:off x="6361920" y="2460600"/>
                <a:ext cx="957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Orangutan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11"/>
              <p:cNvSpPr/>
              <p:nvPr/>
            </p:nvSpPr>
            <p:spPr>
              <a:xfrm>
                <a:off x="4696200" y="6136200"/>
                <a:ext cx="1524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ommon ancestor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Text Box 4"/>
            <p:cNvSpPr/>
            <p:nvPr/>
          </p:nvSpPr>
          <p:spPr>
            <a:xfrm>
              <a:off x="2822760" y="614988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5.9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Group 28"/>
          <p:cNvGrpSpPr/>
          <p:nvPr/>
        </p:nvGrpSpPr>
        <p:grpSpPr>
          <a:xfrm>
            <a:off x="2109960" y="3924360"/>
            <a:ext cx="4811400" cy="2592720"/>
            <a:chOff x="2109960" y="3924360"/>
            <a:chExt cx="4811400" cy="2592720"/>
          </a:xfrm>
        </p:grpSpPr>
        <p:grpSp>
          <p:nvGrpSpPr>
            <p:cNvPr id="522" name="Group 27"/>
            <p:cNvGrpSpPr/>
            <p:nvPr/>
          </p:nvGrpSpPr>
          <p:grpSpPr>
            <a:xfrm>
              <a:off x="2109960" y="3924360"/>
              <a:ext cx="4811400" cy="2455920"/>
              <a:chOff x="2109960" y="3924360"/>
              <a:chExt cx="4811400" cy="2455920"/>
            </a:xfrm>
          </p:grpSpPr>
          <p:pic>
            <p:nvPicPr>
              <p:cNvPr id="523" name="Picture 16" descr="_x0018_15_10aFiveKingdoms_U.jpg                                       00045B47&#10; RKAUL-5                       BCE4327F:"/>
              <p:cNvPicPr/>
              <p:nvPr/>
            </p:nvPicPr>
            <p:blipFill>
              <a:blip r:embed="rId1"/>
              <a:stretch/>
            </p:blipFill>
            <p:spPr>
              <a:xfrm>
                <a:off x="2109960" y="3924360"/>
                <a:ext cx="4811400" cy="241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4" name="Text Box 17"/>
              <p:cNvSpPr/>
              <p:nvPr/>
            </p:nvSpPr>
            <p:spPr>
              <a:xfrm>
                <a:off x="2337840" y="4782960"/>
                <a:ext cx="569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nera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 Box 18"/>
              <p:cNvSpPr/>
              <p:nvPr/>
            </p:nvSpPr>
            <p:spPr>
              <a:xfrm>
                <a:off x="3292560" y="4782960"/>
                <a:ext cx="570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otista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 Box 19"/>
              <p:cNvSpPr/>
              <p:nvPr/>
            </p:nvSpPr>
            <p:spPr>
              <a:xfrm>
                <a:off x="4240440" y="4782960"/>
                <a:ext cx="570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lantae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20"/>
              <p:cNvSpPr/>
              <p:nvPr/>
            </p:nvSpPr>
            <p:spPr>
              <a:xfrm>
                <a:off x="5237640" y="4782960"/>
                <a:ext cx="4687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ungi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21"/>
              <p:cNvSpPr/>
              <p:nvPr/>
            </p:nvSpPr>
            <p:spPr>
              <a:xfrm>
                <a:off x="6099840" y="4782960"/>
                <a:ext cx="6210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nimalia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22"/>
              <p:cNvSpPr/>
              <p:nvPr/>
            </p:nvSpPr>
            <p:spPr>
              <a:xfrm>
                <a:off x="3147840" y="6012000"/>
                <a:ext cx="711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arliest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rganisms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23"/>
              <p:cNvSpPr/>
              <p:nvPr/>
            </p:nvSpPr>
            <p:spPr>
              <a:xfrm>
                <a:off x="6001920" y="5950080"/>
                <a:ext cx="794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okaryotes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Text Box 24"/>
              <p:cNvSpPr/>
              <p:nvPr/>
            </p:nvSpPr>
            <p:spPr>
              <a:xfrm>
                <a:off x="6006600" y="6099120"/>
                <a:ext cx="7567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ukoryotes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" name="Text Box 4"/>
            <p:cNvSpPr/>
            <p:nvPr/>
          </p:nvSpPr>
          <p:spPr>
            <a:xfrm>
              <a:off x="4080960" y="624060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5.10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"/>
          <p:cNvSpPr txBox="1"/>
          <p:nvPr/>
        </p:nvSpPr>
        <p:spPr>
          <a:xfrm>
            <a:off x="304920" y="685800"/>
            <a:ext cx="85341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5.10 Arranging life into kingdoms is a work in progress .   Activ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rebuchet MS"/>
              </a:rPr>
              <a:t>In the five-kingdom system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rokaryotes are in the kingdom Moner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ukaryotes (plants, animals, protists, and fungi) are grouped in separate kingdom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304920" y="685440"/>
            <a:ext cx="8534160" cy="29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rebuchet MS"/>
              </a:rPr>
              <a:t>The domain system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ecognizes the prokaryotic domains Bacteria and Archae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rebuchet MS"/>
              </a:rPr>
              <a:t>Eukaryotes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e placed in the domain Eukary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35" name="Group 15"/>
          <p:cNvGrpSpPr/>
          <p:nvPr/>
        </p:nvGrpSpPr>
        <p:grpSpPr>
          <a:xfrm>
            <a:off x="2173320" y="3508200"/>
            <a:ext cx="4913280" cy="2973600"/>
            <a:chOff x="2173320" y="3508200"/>
            <a:chExt cx="4913280" cy="2973600"/>
          </a:xfrm>
        </p:grpSpPr>
        <p:grpSp>
          <p:nvGrpSpPr>
            <p:cNvPr id="536" name="Group 14"/>
            <p:cNvGrpSpPr/>
            <p:nvPr/>
          </p:nvGrpSpPr>
          <p:grpSpPr>
            <a:xfrm>
              <a:off x="2173320" y="3508200"/>
              <a:ext cx="4913280" cy="2760840"/>
              <a:chOff x="2173320" y="3508200"/>
              <a:chExt cx="4913280" cy="2760840"/>
            </a:xfrm>
          </p:grpSpPr>
          <p:pic>
            <p:nvPicPr>
              <p:cNvPr id="537" name="Picture 7" descr="_x0018_15_10bThreeDomains_L.jpg                                       00045B47&#10; RKAUL-5                       BCE4327F:"/>
              <p:cNvPicPr/>
              <p:nvPr/>
            </p:nvPicPr>
            <p:blipFill>
              <a:blip r:embed="rId1"/>
              <a:stretch/>
            </p:blipFill>
            <p:spPr>
              <a:xfrm>
                <a:off x="2173320" y="3508200"/>
                <a:ext cx="4913280" cy="274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8" name="Text Box 8"/>
              <p:cNvSpPr/>
              <p:nvPr/>
            </p:nvSpPr>
            <p:spPr>
              <a:xfrm>
                <a:off x="2690640" y="4997520"/>
                <a:ext cx="644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acteria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Text Box 9"/>
              <p:cNvSpPr/>
              <p:nvPr/>
            </p:nvSpPr>
            <p:spPr>
              <a:xfrm>
                <a:off x="4274280" y="4997520"/>
                <a:ext cx="65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rchaea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Text Box 10"/>
              <p:cNvSpPr/>
              <p:nvPr/>
            </p:nvSpPr>
            <p:spPr>
              <a:xfrm>
                <a:off x="5923440" y="4997520"/>
                <a:ext cx="645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ukarya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11"/>
              <p:cNvSpPr/>
              <p:nvPr/>
            </p:nvSpPr>
            <p:spPr>
              <a:xfrm>
                <a:off x="3817800" y="5870520"/>
                <a:ext cx="7642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arliest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rganisms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Text Box 12"/>
              <p:cNvSpPr/>
              <p:nvPr/>
            </p:nvSpPr>
            <p:spPr>
              <a:xfrm>
                <a:off x="6139080" y="5803920"/>
                <a:ext cx="857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okaryotes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Text Box 13"/>
              <p:cNvSpPr/>
              <p:nvPr/>
            </p:nvSpPr>
            <p:spPr>
              <a:xfrm>
                <a:off x="6139080" y="5968800"/>
                <a:ext cx="814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ukoryotes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" name="Text Box 4"/>
            <p:cNvSpPr/>
            <p:nvPr/>
          </p:nvSpPr>
          <p:spPr>
            <a:xfrm>
              <a:off x="4276080" y="620532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5.10B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128520" y="12600"/>
            <a:ext cx="8717040" cy="5605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304560" y="685800"/>
            <a:ext cx="779292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5.1 The fossil record chronicles macroevolu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Macroevolution:  activity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cumulative effects of many speciation events over vast tracts of time and encompasses the origin of evolutionary novelties, such as feather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e fossil record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ocuments the main events in the history of lif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limpses of long term evolutionary chang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lows science to create geological record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04920" y="685800"/>
            <a:ext cx="853416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In the geologic record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jor transitions in life-forms separate era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maller changes divide eras into period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e geologic record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grpSp>
        <p:nvGrpSpPr>
          <p:cNvPr id="231" name="Group 6"/>
          <p:cNvGrpSpPr/>
          <p:nvPr/>
        </p:nvGrpSpPr>
        <p:grpSpPr>
          <a:xfrm>
            <a:off x="2325600" y="1150920"/>
            <a:ext cx="5640480" cy="5310000"/>
            <a:chOff x="2325600" y="1150920"/>
            <a:chExt cx="5640480" cy="5310000"/>
          </a:xfrm>
        </p:grpSpPr>
        <p:sp>
          <p:nvSpPr>
            <p:cNvPr id="232" name="Text Box 4"/>
            <p:cNvSpPr/>
            <p:nvPr/>
          </p:nvSpPr>
          <p:spPr>
            <a:xfrm>
              <a:off x="2325600" y="6084720"/>
              <a:ext cx="92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able 15.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Picture 5" descr="_x0019_15_01GeologicRecord_T.jpg                                      0050D02E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3132000" y="1150920"/>
              <a:ext cx="4834080" cy="531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TextBox 5"/>
          <p:cNvSpPr/>
          <p:nvPr/>
        </p:nvSpPr>
        <p:spPr>
          <a:xfrm>
            <a:off x="47520" y="1968480"/>
            <a:ext cx="32162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ldest known fossil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karyotes date back 3.5 billion years ago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karyotes date back 2.2 billion years ago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Use Table 15.1 to estimate how long prokaryotes inhabited the Earth before Eukaryotes evolve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04920" y="685440"/>
            <a:ext cx="7797600" cy="36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5.2 The actual ages of rocks and fossils mark geologic tim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Radiometric dating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easures the decay of radioactive isotop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n gauge the actual ages of fossils and the rocks in which they are foun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04920" y="685800"/>
            <a:ext cx="8534160" cy="29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5.3 Continental drift has played a major role in macroevolu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Continental drift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s the slow, incessant movement of Earth’s crustal plates on the hot mantl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39" name="Group 22"/>
          <p:cNvGrpSpPr/>
          <p:nvPr/>
        </p:nvGrpSpPr>
        <p:grpSpPr>
          <a:xfrm>
            <a:off x="1760400" y="3516480"/>
            <a:ext cx="5689800" cy="3016440"/>
            <a:chOff x="1760400" y="3516480"/>
            <a:chExt cx="5689800" cy="3016440"/>
          </a:xfrm>
        </p:grpSpPr>
        <p:grpSp>
          <p:nvGrpSpPr>
            <p:cNvPr id="240" name="Group 21"/>
            <p:cNvGrpSpPr/>
            <p:nvPr/>
          </p:nvGrpSpPr>
          <p:grpSpPr>
            <a:xfrm>
              <a:off x="1760400" y="3516480"/>
              <a:ext cx="5689800" cy="2881080"/>
              <a:chOff x="1760400" y="3516480"/>
              <a:chExt cx="5689800" cy="2881080"/>
            </a:xfrm>
          </p:grpSpPr>
          <p:pic>
            <p:nvPicPr>
              <p:cNvPr id="241" name="Picture 6" descr="_x001f_15_03aEarthsCrustalPlates_U.jpg                                0050D02E_x0003_203                            BE644015:"/>
              <p:cNvPicPr/>
              <p:nvPr/>
            </p:nvPicPr>
            <p:blipFill>
              <a:blip r:embed="rId1"/>
              <a:stretch/>
            </p:blipFill>
            <p:spPr>
              <a:xfrm>
                <a:off x="1760400" y="3516480"/>
                <a:ext cx="5689800" cy="28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Text Box 7"/>
              <p:cNvSpPr/>
              <p:nvPr/>
            </p:nvSpPr>
            <p:spPr>
              <a:xfrm>
                <a:off x="3722040" y="5962680"/>
                <a:ext cx="250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dge of one plate being pushed over edge of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eighboring plate (zones of violent geologic events)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8"/>
              <p:cNvSpPr/>
              <p:nvPr/>
            </p:nvSpPr>
            <p:spPr>
              <a:xfrm>
                <a:off x="4420080" y="5718240"/>
                <a:ext cx="842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ntarctic Plate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9"/>
              <p:cNvSpPr/>
              <p:nvPr/>
            </p:nvSpPr>
            <p:spPr>
              <a:xfrm>
                <a:off x="5910120" y="5310360"/>
                <a:ext cx="63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ustralian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late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 Box 10"/>
              <p:cNvSpPr/>
              <p:nvPr/>
            </p:nvSpPr>
            <p:spPr>
              <a:xfrm>
                <a:off x="5416560" y="5030640"/>
                <a:ext cx="72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plit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eveloping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11"/>
              <p:cNvSpPr/>
              <p:nvPr/>
            </p:nvSpPr>
            <p:spPr>
              <a:xfrm>
                <a:off x="5305320" y="5091120"/>
                <a:ext cx="176400" cy="36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12"/>
              <p:cNvSpPr/>
              <p:nvPr/>
            </p:nvSpPr>
            <p:spPr>
              <a:xfrm>
                <a:off x="5304960" y="4594320"/>
                <a:ext cx="457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ndian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late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13"/>
              <p:cNvSpPr/>
              <p:nvPr/>
            </p:nvSpPr>
            <p:spPr>
              <a:xfrm>
                <a:off x="4673880" y="4014720"/>
                <a:ext cx="84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urasian Plate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 Box 14"/>
              <p:cNvSpPr/>
              <p:nvPr/>
            </p:nvSpPr>
            <p:spPr>
              <a:xfrm>
                <a:off x="2887200" y="4068720"/>
                <a:ext cx="612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orth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merican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late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15"/>
              <p:cNvSpPr/>
              <p:nvPr/>
            </p:nvSpPr>
            <p:spPr>
              <a:xfrm>
                <a:off x="3368160" y="5041800"/>
                <a:ext cx="612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outh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merican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late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16"/>
              <p:cNvSpPr/>
              <p:nvPr/>
            </p:nvSpPr>
            <p:spPr>
              <a:xfrm>
                <a:off x="2687400" y="507348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azca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late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17"/>
              <p:cNvSpPr/>
              <p:nvPr/>
            </p:nvSpPr>
            <p:spPr>
              <a:xfrm>
                <a:off x="2065320" y="4756320"/>
                <a:ext cx="48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cific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late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18"/>
              <p:cNvSpPr/>
              <p:nvPr/>
            </p:nvSpPr>
            <p:spPr>
              <a:xfrm>
                <a:off x="4284000" y="4527720"/>
                <a:ext cx="531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rabian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late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19"/>
              <p:cNvSpPr/>
              <p:nvPr/>
            </p:nvSpPr>
            <p:spPr>
              <a:xfrm>
                <a:off x="4323960" y="4865760"/>
                <a:ext cx="499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frican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late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20"/>
              <p:cNvSpPr/>
              <p:nvPr/>
            </p:nvSpPr>
            <p:spPr>
              <a:xfrm>
                <a:off x="4753080" y="4648320"/>
                <a:ext cx="218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Text Box 4"/>
            <p:cNvSpPr/>
            <p:nvPr/>
          </p:nvSpPr>
          <p:spPr>
            <a:xfrm>
              <a:off x="4124520" y="625644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5.3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0:54:38Z</dcterms:created>
  <dc:creator>Christopher Delgado</dc:creator>
  <dc:description/>
  <dc:language>en-US</dc:language>
  <cp:lastModifiedBy>Tracey Hayden</cp:lastModifiedBy>
  <cp:lastPrinted>2002-11-28T14:12:51Z</cp:lastPrinted>
  <dcterms:modified xsi:type="dcterms:W3CDTF">2010-02-28T19:36:46Z</dcterms:modified>
  <cp:revision>421</cp:revision>
  <dc:subject/>
  <dc:title>Slide 1</dc:title>
</cp:coreProperties>
</file>